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E9DC8-73F4-4DF5-AFE4-15A9B9F22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86ECA-6AB2-4E50-9040-890922C05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4C123-30FF-4E4C-B35B-045D8D7B3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3B7AD-DE52-455B-BBF2-298B1DFAD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366E7-21E2-46DA-B302-BC6857311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2BE73-001C-46B8-B364-82C6EFA6C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BC970-5BF6-4D90-8370-C4E6112D8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98B4-BF44-4C50-A0BB-F1DC7FC67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0F8A8-C176-4622-984F-D965D6821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EBE25-192E-4536-B20B-93DA15F15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3AF3-A19E-480C-A0A8-31BEFF8E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8470-73EC-4DAE-9CE1-76BF474E8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9629-D26E-4A22-A963-BF8A873E9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imming Upstre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Journey Possibl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ne Clark</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TC Works Teen Parent Progra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mon Habitat has been adversely affected by humans. Students will observe a historical salmon habitat, analyze data and develop a plan to improve the habitat at Patterson Creek in Bay City Park and implement plan. With the new knowledge they will gain, they will develop an informative brochure on habitat resoration and maintain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r role in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impact our water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reverse damage that man has ca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necessary components of a good salmon habit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collect data and display it in a 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figure the rate of water mo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fast should the water be moving for good habit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mpact does logging have on habit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lower them water temperature of water in a stre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Assessm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W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multiple ch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42:21Z</dcterms:created>
  <dc:creator>Christine.Clark</dc:creator>
  <dc:description/>
  <dc:language>en-US</dc:language>
  <cp:lastModifiedBy>Christine.Clark</cp:lastModifiedBy>
  <dcterms:modified xsi:type="dcterms:W3CDTF">2010-08-03T20:21:13Z</dcterms:modified>
  <cp:revision>4</cp:revision>
  <dc:subject/>
  <dc:title>Swimming Upstream</dc:title>
</cp:coreProperties>
</file>